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27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6.wmf" ContentType="image/x-wmf"/>
  <Override PartName="/ppt/media/image19.jpeg" ContentType="image/jpeg"/>
  <Override PartName="/ppt/media/image39.wmf" ContentType="image/x-wmf"/>
  <Override PartName="/ppt/media/image9.wmf" ContentType="image/x-wmf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95D2-232C-4499-AAAB-081E7EFE78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DD42-E4BE-4DAA-B476-4A2E9D7416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классное мероприятие можно использовать для групповых и индивидуальных зан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ECC3-A199-4770-B67E-2DF4F95D6C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5065-3E51-464D-9B19-AC520F51D3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4E40-4943-49EB-9E34-BF2E79FFBF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BF34-B03D-48F1-97F8-B7365E31F4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0E06-2C39-49D6-A73B-FB6D19706F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69A9-DB33-4AD8-922B-66DB8BB157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0A23-9A93-47A4-A430-6D6DFDF22E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E889-84BF-4ED1-89B9-D2D2699E08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CD1C-15C3-4755-AA24-1B5112B2A0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DC96-28F8-4CE6-902E-418EEC9F95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D8FA-3070-429C-8D4B-D36301EA9A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9FDF-E822-4898-B666-763D407DBA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8CC4-6404-45D1-AFC4-AFB4CB040C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CABD-41CA-4369-BD4F-2D71A9E50A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943C-798D-4EC3-9358-590AD46F07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15E4-40F3-4F9A-AB2C-C4D03844A1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EA6B-9A2B-4B9F-9747-83D6B91E30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C14E-AD53-4756-96DB-0062540FB3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E17A-9E9C-4F4D-B915-79CA7C912B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3A7D-0EDD-4EBC-9FBF-B7E40E912F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361E-2DB5-4A8D-BD50-0326AE6FCB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9305-3AA7-4B0D-BB81-03A346D0D9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60D0-19E8-4568-B4C1-BB33DE9119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7C39-A65A-4136-8630-6298328EDC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62C6-49EC-4C99-B9F1-A914801778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EC98-04E6-440D-AB37-68B19995A7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D5F7-B671-43DD-9A9F-006CCCB8EA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AEB4-25D7-4FF3-B7DC-5A01085B73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5333-EFA5-4FCB-A701-98E1ABD14D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E180-3DCE-489B-AA3A-D8FC0D0B0D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C24B-1574-4D78-8F0E-77ACDCB284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EA42-57B6-4C18-B8B2-12692F36D9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7470-3626-4C63-B255-A8A2F1DF95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8048-401C-4ED3-9F26-B617F189DB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4BAC-9A4C-4920-8FB1-2560304F73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6F53-0CB5-41E7-AEB6-D39698701A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C115-6B8E-4F2E-8393-9E23307EF7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27CD-4029-4D5C-B2B5-9907FA1CE4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EFE6-DB44-4E65-A392-793AF41791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DD78-A95A-4603-8DFB-5A84BAAA21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36CB-A794-4997-8891-47F8A4F7F2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69D6-2166-4CD8-B118-E5CA4A5673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BA2E-A5BC-4843-8DFB-D027BA5C12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48DF-4744-4BF2-9923-65AE744D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1A75-D4C4-4E79-BB45-87BBE7BE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B764-6424-4718-92BD-BA2E846D8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EDF4-6F23-46D2-B6C5-DD3513812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1E8C-C4EE-421C-AFD9-3A22A999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EDD1-B614-4579-A1C8-AB04C21E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9E6A-A83D-4A2D-A289-C5231C6A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1A63-D797-4648-AF4D-4506AC3A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F62D-8157-4931-BCB4-C571CA83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4209-8CE6-4CF8-A0F9-90CC5D54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50A4-3A4C-4776-BC85-12591512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D470-3CBC-4AF5-B70C-1D2A2685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99F6-B69D-4925-8B81-7D8D61F5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8E8C-896D-4128-A8A6-12F85C1C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64B8-4459-4722-912A-604092D8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5CF6-8AB8-4CDF-9711-4F20C999F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3B52-8F7E-4024-9807-5E9BF86DE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3B5E-9224-4E3D-9751-A234BDD0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33C6-BF82-4818-A843-FDE61FF5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CBDF-4403-44A5-BF50-A672200E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1C5D-0F77-4954-A3D9-5260F98A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4747-0BA5-4319-820E-E9F6C42C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D9B5-0BD0-45F9-9BF3-99644F48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F27A-A464-47D3-901E-061E1B67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BB7E-7B87-4A73-8074-BAD1CAC7558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B549-F0E3-492F-937B-0C5E52E0D0A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28.xml"/><Relationship Id="rId27" Type="http://schemas.openxmlformats.org/officeDocument/2006/relationships/slide" Target="slide29.xml"/><Relationship Id="rId28" Type="http://schemas.openxmlformats.org/officeDocument/2006/relationships/slide" Target="slide30.xml"/><Relationship Id="rId29" Type="http://schemas.openxmlformats.org/officeDocument/2006/relationships/slide" Target="slide31.xml"/><Relationship Id="rId30" Type="http://schemas.openxmlformats.org/officeDocument/2006/relationships/slide" Target="slide32.xml"/><Relationship Id="rId31" Type="http://schemas.openxmlformats.org/officeDocument/2006/relationships/slide" Target="slide33.xml"/><Relationship Id="rId32" Type="http://schemas.openxmlformats.org/officeDocument/2006/relationships/slide" Target="slide34.xml"/><Relationship Id="rId33" Type="http://schemas.openxmlformats.org/officeDocument/2006/relationships/slide" Target="slide35.xml"/><Relationship Id="rId34" Type="http://schemas.openxmlformats.org/officeDocument/2006/relationships/slide" Target="slide36.xml"/><Relationship Id="rId35" Type="http://schemas.openxmlformats.org/officeDocument/2006/relationships/slide" Target="slide37.xml"/><Relationship Id="rId36" Type="http://schemas.openxmlformats.org/officeDocument/2006/relationships/slide" Target="slide38.xml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slide2.xml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38.xml"/><Relationship Id="rId3" Type="http://schemas.openxmlformats.org/officeDocument/2006/relationships/slide" Target="slide38.xml"/><Relationship Id="rId4" Type="http://schemas.openxmlformats.org/officeDocument/2006/relationships/slide" Target="slide38.xml"/><Relationship Id="rId5" Type="http://schemas.openxmlformats.org/officeDocument/2006/relationships/slide" Target="slide38.xml"/><Relationship Id="rId6" Type="http://schemas.openxmlformats.org/officeDocument/2006/relationships/slide" Target="slide38.xml"/><Relationship Id="rId7" Type="http://schemas.openxmlformats.org/officeDocument/2006/relationships/slide" Target="slide43.xml"/><Relationship Id="rId8" Type="http://schemas.openxmlformats.org/officeDocument/2006/relationships/slide" Target="slide42.xml"/><Relationship Id="rId9" Type="http://schemas.openxmlformats.org/officeDocument/2006/relationships/slide" Target="slide40.xml"/><Relationship Id="rId10" Type="http://schemas.openxmlformats.org/officeDocument/2006/relationships/slide" Target="slide41.xml"/><Relationship Id="rId11" Type="http://schemas.openxmlformats.org/officeDocument/2006/relationships/slide" Target="slide39.xml"/><Relationship Id="rId12" Type="http://schemas.openxmlformats.org/officeDocument/2006/relationships/slide" Target="slide44.xml"/><Relationship Id="rId1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stat18.privet.ru/lr/0a19a71b37652619ecb933ae5dda8634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stat18.privet.ru/lr/0a2864249dda4e23ca7203fe6a6ad4ca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2c911"/>
            </a:gs>
            <a:gs pos="50000">
              <a:srgbClr val="ffff99"/>
            </a:gs>
            <a:gs pos="100000">
              <a:srgbClr val="a2c91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724280" y="2666520"/>
            <a:ext cx="38102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Интеллектуальная иг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по географии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5"/>
          <p:cNvSpPr/>
          <p:nvPr/>
        </p:nvSpPr>
        <p:spPr>
          <a:xfrm>
            <a:off x="4876920" y="4952880"/>
            <a:ext cx="3962160" cy="16002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2" descr="обложка"/>
          <p:cNvPicPr/>
          <p:nvPr/>
        </p:nvPicPr>
        <p:blipFill>
          <a:blip r:embed="rId1"/>
          <a:stretch/>
        </p:blipFill>
        <p:spPr>
          <a:xfrm>
            <a:off x="609480" y="990720"/>
            <a:ext cx="3794400" cy="5105160"/>
          </a:xfrm>
          <a:prstGeom prst="rect">
            <a:avLst/>
          </a:prstGeom>
          <a:ln w="0">
            <a:noFill/>
          </a:ln>
        </p:spPr>
      </p:pic>
      <p:sp>
        <p:nvSpPr>
          <p:cNvPr id="107" name="WordArt 23"/>
          <p:cNvSpPr txBox="1"/>
          <p:nvPr/>
        </p:nvSpPr>
        <p:spPr>
          <a:xfrm>
            <a:off x="4648320" y="1066680"/>
            <a:ext cx="4114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07932" dir="189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ЗНАТОКИ 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107932" dir="189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07932" dir="189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ГЕОГРАФИИ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107932" dir="189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66ff"/>
                </a:solidFill>
                <a:latin typeface="Times New Roman"/>
              </a:rPr>
              <a:t>2. Географические открытия (30)</a:t>
            </a:r>
            <a:r>
              <a:rPr b="0" lang="ru-RU" sz="3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76920" y="167616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диция э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аз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рообраз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мли и налич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иного Миров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еа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: Фернан Магел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магеллан +"/>
          <p:cNvPicPr/>
          <p:nvPr/>
        </p:nvPicPr>
        <p:blipFill>
          <a:blip r:embed="rId2"/>
          <a:stretch/>
        </p:blipFill>
        <p:spPr>
          <a:xfrm>
            <a:off x="914400" y="1828800"/>
            <a:ext cx="3809880" cy="3884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66ff"/>
                </a:solidFill>
                <a:latin typeface="Times New Roman"/>
              </a:rPr>
              <a:t>2. Географические открытия (40)</a:t>
            </a:r>
            <a:r>
              <a:rPr b="0" lang="ru-RU" sz="3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5181480"/>
            <a:ext cx="76964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Arial"/>
              </a:rPr>
              <a:t>ФОТОВОПРО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то автор этой карт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 Эратосф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вопрос"/>
          <p:cNvPicPr/>
          <p:nvPr/>
        </p:nvPicPr>
        <p:blipFill>
          <a:blip r:embed="rId2"/>
          <a:stretch/>
        </p:blipFill>
        <p:spPr>
          <a:xfrm>
            <a:off x="5410080" y="1905120"/>
            <a:ext cx="3438720" cy="2184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карта по Эритосфену"/>
          <p:cNvPicPr/>
          <p:nvPr/>
        </p:nvPicPr>
        <p:blipFill>
          <a:blip r:embed="rId3"/>
          <a:stretch/>
        </p:blipFill>
        <p:spPr>
          <a:xfrm>
            <a:off x="533520" y="1828800"/>
            <a:ext cx="4952880" cy="3246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66ff"/>
                </a:solidFill>
                <a:latin typeface="Times New Roman"/>
              </a:rPr>
              <a:t>2. Географические открытия (50)</a:t>
            </a:r>
            <a:r>
              <a:rPr b="0" lang="ru-RU" sz="3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овите соответств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Христофор Колумб                  А. 16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Фернан Магеллан                    Б. 14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Виллем Янсзон                       В. 1519-15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61760" y="4495680"/>
            <a:ext cx="792468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66ff"/>
                </a:solidFill>
                <a:latin typeface="Times New Roman"/>
              </a:rPr>
              <a:t>3. Русские путешественники (10)</a:t>
            </a:r>
            <a:r>
              <a:rPr b="0" lang="ru-RU" sz="3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5409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й материк  был  открыт ими в 1820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: Антаркти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" descr="бел и лаз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905120" y="1447920"/>
            <a:ext cx="5486400" cy="3871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66ff"/>
                </a:solidFill>
                <a:latin typeface="Times New Roman"/>
              </a:rPr>
              <a:t>3. Русские путешественники (20)</a:t>
            </a:r>
            <a:r>
              <a:rPr b="0" lang="ru-RU" sz="3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876560" y="190476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путешествен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нодоступ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йоны Азии. Нанес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ту более 20 гор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ебтов, ряд озер и ре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: Николай Пржевал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Рисунок1"/>
          <p:cNvPicPr/>
          <p:nvPr/>
        </p:nvPicPr>
        <p:blipFill>
          <a:blip r:embed="rId2"/>
          <a:stretch/>
        </p:blipFill>
        <p:spPr>
          <a:xfrm>
            <a:off x="1022400" y="1600200"/>
            <a:ext cx="3592440" cy="4530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66ff"/>
                </a:solidFill>
                <a:latin typeface="Times New Roman"/>
              </a:rPr>
              <a:t>3. Русские путешественники (30)</a:t>
            </a:r>
            <a:r>
              <a:rPr b="0" lang="ru-RU" sz="3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4120" y="1980720"/>
            <a:ext cx="350496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реплав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зглавил пер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с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угосвет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ав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: Иван Крузенштер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5" descr="ен"/>
          <p:cNvPicPr/>
          <p:nvPr/>
        </p:nvPicPr>
        <p:blipFill>
          <a:blip r:embed="rId2"/>
          <a:stretch/>
        </p:blipFill>
        <p:spPr>
          <a:xfrm>
            <a:off x="914400" y="1676520"/>
            <a:ext cx="3686040" cy="4530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66ff"/>
                </a:solidFill>
                <a:latin typeface="Times New Roman"/>
              </a:rPr>
              <a:t>3. Русские путешественники (40)</a:t>
            </a:r>
            <a:r>
              <a:rPr b="0" lang="ru-RU" sz="3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23920" y="2133360"/>
            <a:ext cx="4038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 и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лове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крывшего прол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жду Азией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мерик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: Семен Дежн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0" descr="Рисунок2"/>
          <p:cNvPicPr/>
          <p:nvPr/>
        </p:nvPicPr>
        <p:blipFill>
          <a:blip r:embed="rId2"/>
          <a:stretch/>
        </p:blipFill>
        <p:spPr>
          <a:xfrm>
            <a:off x="1143000" y="1600200"/>
            <a:ext cx="3214800" cy="4530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66ff"/>
                </a:solidFill>
                <a:latin typeface="Times New Roman"/>
              </a:rPr>
              <a:t>3. Русские путешественники (50)</a:t>
            </a:r>
            <a:r>
              <a:rPr b="0" lang="ru-RU" sz="3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28840" y="1828440"/>
            <a:ext cx="3352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числ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моря, 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торые «ходил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фанас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кит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: Каспийско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равийско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ер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837"/>
                </a:moveTo>
                <a:lnTo>
                  <a:pt x="14728" y="6448"/>
                </a:ln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5" y="10800"/>
                </a:lnTo>
                <a:lnTo>
                  <a:pt x="17461" y="10800"/>
                </a:lnTo>
                <a:lnTo>
                  <a:pt x="17461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9" y="10800"/>
                </a:lnTo>
                <a:close/>
              </a:path>
              <a:path fill="darkenLess" w="24303" h="21600">
                <a:moveTo>
                  <a:pt x="14728" y="6448"/>
                </a:move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3" h="21600">
                <a:moveTo>
                  <a:pt x="11229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1" y="17989"/>
                </a:lnTo>
                <a:lnTo>
                  <a:pt x="17461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9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Афанасий"/>
          <p:cNvPicPr/>
          <p:nvPr/>
        </p:nvPicPr>
        <p:blipFill>
          <a:blip r:embed="rId2"/>
          <a:stretch/>
        </p:blipFill>
        <p:spPr>
          <a:xfrm>
            <a:off x="1371600" y="1828800"/>
            <a:ext cx="309564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ff"/>
                </a:solidFill>
                <a:latin typeface="Times New Roman"/>
              </a:rPr>
              <a:t>4. Вселенная (1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планет в Солнечной систем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: восем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солн система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2133720" y="1600200"/>
            <a:ext cx="4419360" cy="3314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ff"/>
                </a:solidFill>
                <a:latin typeface="Times New Roman"/>
              </a:rPr>
              <a:t>4. Вселенная (20)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29200" y="1980720"/>
            <a:ext cx="3733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амая больш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лан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лнеч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истем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 Юпит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4" descr="юпитер"/>
          <p:cNvPicPr/>
          <p:nvPr/>
        </p:nvPicPr>
        <p:blipFill>
          <a:blip r:embed="rId2"/>
          <a:stretch/>
        </p:blipFill>
        <p:spPr>
          <a:xfrm>
            <a:off x="685800" y="190512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Times New Roman"/>
              </a:rPr>
              <a:t>Тем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62120" y="1676520"/>
          <a:ext cx="7772400" cy="4213080"/>
        </p:xfrm>
        <a:graphic>
          <a:graphicData uri="http://schemas.openxmlformats.org/drawingml/2006/table">
            <a:tbl>
              <a:tblPr/>
              <a:tblGrid>
                <a:gridCol w="3454200"/>
                <a:gridCol w="849240"/>
                <a:gridCol w="851040"/>
                <a:gridCol w="851040"/>
                <a:gridCol w="915840"/>
                <a:gridCol w="85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уки о природ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ческие от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8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10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е путешествен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1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1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1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1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1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Вселен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16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1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18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1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20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изображ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2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2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2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2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2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Строение Зем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26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2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28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2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30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Матери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hlinkClick r:id="rId3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3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3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3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3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 </a:t>
                      </a: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hlinkClick r:id="rId36" action="ppaction://hlinksldjump"/>
                        </a:rPr>
                        <a:t>ФИНА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p:transition spd="med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ff"/>
                </a:solidFill>
                <a:latin typeface="Times New Roman"/>
              </a:rPr>
              <a:t>4. Вселенная (3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52520" y="1828800"/>
            <a:ext cx="3886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назыв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гант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п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вез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: гала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" descr="галактика"/>
          <p:cNvPicPr/>
          <p:nvPr/>
        </p:nvPicPr>
        <p:blipFill>
          <a:blip r:embed="rId2"/>
          <a:stretch/>
        </p:blipFill>
        <p:spPr>
          <a:xfrm>
            <a:off x="609480" y="2057400"/>
            <a:ext cx="4267440" cy="3413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ff"/>
                </a:solidFill>
                <a:latin typeface="Times New Roman"/>
              </a:rPr>
              <a:t>4. Вселенная (4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ечисли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ан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емной групп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:  Марс, Венера, Меркурий, Зем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зем группа"/>
          <p:cNvPicPr/>
          <p:nvPr/>
        </p:nvPicPr>
        <p:blipFill>
          <a:blip r:embed="rId2"/>
          <a:stretch/>
        </p:blipFill>
        <p:spPr>
          <a:xfrm>
            <a:off x="68580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ff"/>
                </a:solidFill>
                <a:latin typeface="Times New Roman"/>
              </a:rPr>
              <a:t>4. Вселенная (5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5409720"/>
            <a:ext cx="8077320" cy="11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овите представленное созвезд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Большая медвед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2" descr="bolshaya_medvedica_sozvezdie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219320" y="1523880"/>
            <a:ext cx="6705360" cy="3718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ff"/>
                </a:solidFill>
                <a:latin typeface="Times New Roman"/>
              </a:rPr>
              <a:t>5. Виды изображений (1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бо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ля опреде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орон горизон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: комп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">
            <a:hlinkClick r:id="rId1" action="ppaction://hlinksldjump"/>
          </p:cNvPr>
          <p:cNvSpPr/>
          <p:nvPr/>
        </p:nvSpPr>
        <p:spPr>
          <a:xfrm>
            <a:off x="8153280" y="60199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2" descr="компас1"/>
          <p:cNvPicPr/>
          <p:nvPr/>
        </p:nvPicPr>
        <p:blipFill>
          <a:blip r:embed="rId2"/>
          <a:stretch/>
        </p:blipFill>
        <p:spPr>
          <a:xfrm>
            <a:off x="685800" y="1828800"/>
            <a:ext cx="375588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ff"/>
                </a:solidFill>
                <a:latin typeface="Times New Roman"/>
              </a:rPr>
              <a:t>5. Виды изображений (2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876920" y="16765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называю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ини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единяющ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верный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Южный полюс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: мериди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глобус19"/>
          <p:cNvPicPr/>
          <p:nvPr/>
        </p:nvPicPr>
        <p:blipFill>
          <a:blip r:embed="rId2"/>
          <a:stretch/>
        </p:blipFill>
        <p:spPr>
          <a:xfrm>
            <a:off x="533520" y="2057400"/>
            <a:ext cx="4343400" cy="2943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ff"/>
                </a:solidFill>
                <a:latin typeface="Times New Roman"/>
              </a:rPr>
              <a:t>5. Виды изображений (3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ая бук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ответству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словно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на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родник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: 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8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9" descr="усл знаки"/>
          <p:cNvPicPr/>
          <p:nvPr/>
        </p:nvPicPr>
        <p:blipFill>
          <a:blip r:embed="rId2"/>
          <a:stretch/>
        </p:blipFill>
        <p:spPr>
          <a:xfrm>
            <a:off x="1219320" y="1752480"/>
            <a:ext cx="266220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ff"/>
                </a:solidFill>
                <a:latin typeface="Times New Roman"/>
              </a:rPr>
              <a:t>5. Виды изображений (4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419720" y="1828440"/>
            <a:ext cx="4419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люб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объект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ображ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карте мес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: дерево, река, мос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селенный пункт, выруб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руктовый сад, обрыв, м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план местности"/>
          <p:cNvPicPr/>
          <p:nvPr/>
        </p:nvPicPr>
        <p:blipFill>
          <a:blip r:embed="rId2"/>
          <a:stretch/>
        </p:blipFill>
        <p:spPr>
          <a:xfrm>
            <a:off x="838080" y="1752480"/>
            <a:ext cx="3413160" cy="44960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ff"/>
                </a:solidFill>
                <a:latin typeface="Times New Roman"/>
              </a:rPr>
              <a:t>5. Виды изображений (5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876560" y="190476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 какой сторо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изонта нуж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ерну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цом, что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ава оказа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вер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: за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0013-018-Storony-gorizonta"/>
          <p:cNvPicPr/>
          <p:nvPr/>
        </p:nvPicPr>
        <p:blipFill>
          <a:blip r:embed="rId2"/>
          <a:stretch/>
        </p:blipFill>
        <p:spPr>
          <a:xfrm>
            <a:off x="685800" y="1828800"/>
            <a:ext cx="4038480" cy="3586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Times New Roman"/>
              </a:rPr>
              <a:t>6. Строение Земли (1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28840" y="20570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назы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вердая оболочка Земл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: лит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9" descr="599px-Earth_layers_model"/>
          <p:cNvPicPr/>
          <p:nvPr/>
        </p:nvPicPr>
        <p:blipFill>
          <a:blip r:embed="rId2"/>
          <a:stretch/>
        </p:blipFill>
        <p:spPr>
          <a:xfrm>
            <a:off x="762120" y="1828800"/>
            <a:ext cx="433548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Times New Roman"/>
              </a:rPr>
              <a:t>6. Строение Земли  (2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800240" y="182844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ение вулк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крыв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 буквой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: кратер вулк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1" descr="вулкан картинка"/>
          <p:cNvPicPr/>
          <p:nvPr/>
        </p:nvPicPr>
        <p:blipFill>
          <a:blip r:embed="rId2"/>
          <a:stretch/>
        </p:blipFill>
        <p:spPr>
          <a:xfrm>
            <a:off x="609480" y="1828800"/>
            <a:ext cx="389736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Times New Roman"/>
              </a:rPr>
              <a:t>1. Науки о природе (1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56386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: естественные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219320" y="2666520"/>
            <a:ext cx="70279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щее назв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76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сех наук о природ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Times New Roman"/>
              </a:rPr>
              <a:t>6. Строение Земли (3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4800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происхождения относя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и породы?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: осадо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1" descr="известняк"/>
          <p:cNvPicPr/>
          <p:nvPr/>
        </p:nvPicPr>
        <p:blipFill>
          <a:blip r:embed="rId2"/>
          <a:stretch/>
        </p:blipFill>
        <p:spPr>
          <a:xfrm>
            <a:off x="457200" y="1828800"/>
            <a:ext cx="4267080" cy="2789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песчанник"/>
          <p:cNvPicPr/>
          <p:nvPr/>
        </p:nvPicPr>
        <p:blipFill>
          <a:blip r:embed="rId3"/>
          <a:stretch/>
        </p:blipFill>
        <p:spPr>
          <a:xfrm>
            <a:off x="5105520" y="17524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66ff"/>
                </a:solidFill>
                <a:latin typeface="Times New Roman"/>
              </a:rPr>
              <a:t>6. Строение Земли (40)</a:t>
            </a:r>
            <a:r>
              <a:rPr b="0" lang="ru-RU" sz="3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ff3300"/>
                </a:solidFill>
                <a:latin typeface="Georgia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 действующий вулкан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: Ключевская соп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505320" y="8380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АУКЦИ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6" descr="клч сопка"/>
          <p:cNvPicPr/>
          <p:nvPr/>
        </p:nvPicPr>
        <p:blipFill>
          <a:blip r:embed="rId2"/>
          <a:stretch/>
        </p:blipFill>
        <p:spPr>
          <a:xfrm>
            <a:off x="1981080" y="1600200"/>
            <a:ext cx="5334120" cy="3556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Times New Roman"/>
              </a:rPr>
              <a:t>6. Строение Земли (5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181480" y="1905120"/>
            <a:ext cx="37339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й релье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обладает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шей Самар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: равни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5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8" descr="Рисунок1"/>
          <p:cNvPicPr/>
          <p:nvPr/>
        </p:nvPicPr>
        <p:blipFill>
          <a:blip r:embed="rId2"/>
          <a:stretch/>
        </p:blipFill>
        <p:spPr>
          <a:xfrm>
            <a:off x="457200" y="2057400"/>
            <a:ext cx="4648320" cy="3035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Times New Roman"/>
              </a:rPr>
              <a:t>7. Материки (1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кольк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астей све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планете Земл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: ш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0" descr="глобус18"/>
          <p:cNvPicPr/>
          <p:nvPr/>
        </p:nvPicPr>
        <p:blipFill>
          <a:blip r:embed="rId2"/>
          <a:stretch/>
        </p:blipFill>
        <p:spPr>
          <a:xfrm>
            <a:off x="838080" y="1600200"/>
            <a:ext cx="391320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Times New Roman"/>
              </a:rPr>
              <a:t>7. Материки (2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5486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е материк под цифрой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: Евра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0" descr="контуры материков"/>
          <p:cNvPicPr/>
          <p:nvPr/>
        </p:nvPicPr>
        <p:blipFill>
          <a:blip r:embed="rId2"/>
          <a:stretch/>
        </p:blipFill>
        <p:spPr>
          <a:xfrm>
            <a:off x="1600200" y="1523880"/>
            <a:ext cx="6705720" cy="3775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Times New Roman"/>
              </a:rPr>
              <a:t>7. Материки (3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52880" y="1752120"/>
            <a:ext cx="3733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терри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го матер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полож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ая круп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устыня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х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: Афр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6" descr="сахара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609480" y="2057400"/>
            <a:ext cx="4267440" cy="2835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66ff"/>
                </a:solidFill>
                <a:latin typeface="Times New Roman"/>
              </a:rPr>
              <a:t>7. Материки (40)</a:t>
            </a:r>
            <a:r>
              <a:rPr b="0" lang="ru-RU" sz="3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ff3300"/>
                </a:solidFill>
                <a:latin typeface="Georgia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48" name="Picture 16" descr="коала"/>
          <p:cNvPicPr/>
          <p:nvPr/>
        </p:nvPicPr>
        <p:blipFill>
          <a:blip r:embed="rId1"/>
          <a:stretch/>
        </p:blipFill>
        <p:spPr>
          <a:xfrm>
            <a:off x="990720" y="1066680"/>
            <a:ext cx="3200400" cy="24559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518148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му материку характерны эти животн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: Австрал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4">
            <a:hlinkClick r:id="rId2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3" descr="кенгуру"/>
          <p:cNvPicPr/>
          <p:nvPr/>
        </p:nvPicPr>
        <p:blipFill>
          <a:blip r:embed="rId3"/>
          <a:stretch/>
        </p:blipFill>
        <p:spPr>
          <a:xfrm>
            <a:off x="5105520" y="685800"/>
            <a:ext cx="3786120" cy="25495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4" descr="ехидна"/>
          <p:cNvPicPr/>
          <p:nvPr/>
        </p:nvPicPr>
        <p:blipFill>
          <a:blip r:embed="rId4"/>
          <a:stretch/>
        </p:blipFill>
        <p:spPr>
          <a:xfrm>
            <a:off x="3505320" y="2743200"/>
            <a:ext cx="2971800" cy="22795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Times New Roman"/>
              </a:rPr>
              <a:t>7. Материки  (5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95288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терри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го матер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положе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ое глубо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зеро ми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: Евраз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зеро Байк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0" descr="байкал"/>
          <p:cNvPicPr/>
          <p:nvPr/>
        </p:nvPicPr>
        <p:blipFill>
          <a:blip r:embed="rId2"/>
          <a:stretch/>
        </p:blipFill>
        <p:spPr>
          <a:xfrm>
            <a:off x="914400" y="2057400"/>
            <a:ext cx="3809880" cy="36115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048120" y="1752120"/>
            <a:ext cx="5486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Рекор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0033"/>
                </a:solidFill>
                <a:uFillTx/>
                <a:latin typeface="Arial"/>
                <a:hlinkClick r:id="rId2" action="ppaction://hlinksldjump"/>
              </a:rPr>
              <a:t>Атмосф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0033"/>
                </a:solidFill>
                <a:uFillTx/>
                <a:latin typeface="Arial"/>
                <a:hlinkClick r:id="rId3" action="ppaction://hlinksldjump"/>
              </a:rPr>
              <a:t>Самоцве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0033"/>
                </a:solidFill>
                <a:uFillTx/>
                <a:latin typeface="Arial"/>
                <a:hlinkClick r:id="rId4" action="ppaction://hlinksldjump"/>
              </a:rPr>
              <a:t>Удивительное ря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0033"/>
                </a:solidFill>
                <a:uFillTx/>
                <a:latin typeface="Arial"/>
                <a:hlinkClick r:id="rId5" action="ppaction://hlinksldjump"/>
              </a:rPr>
              <a:t>Загад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0033"/>
                </a:solidFill>
                <a:uFillTx/>
                <a:latin typeface="Arial"/>
                <a:hlinkClick r:id="rId6" action="ppaction://hlinksldjump"/>
              </a:rPr>
              <a:t>В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3">
            <a:hlinkClick r:id="rId7" action="ppaction://hlinksldjump"/>
          </p:cNvPr>
          <p:cNvSpPr/>
          <p:nvPr/>
        </p:nvSpPr>
        <p:spPr>
          <a:xfrm>
            <a:off x="2209680" y="4495680"/>
            <a:ext cx="685800" cy="685800"/>
          </a:xfrm>
          <a:prstGeom prst="sun">
            <a:avLst>
              <a:gd name="adj" fmla="val 25000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Arial"/>
              </a:rPr>
              <a:t>ФИНА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AutoShape 17">
            <a:hlinkClick r:id="rId8" action="ppaction://hlinksldjump"/>
          </p:cNvPr>
          <p:cNvSpPr/>
          <p:nvPr/>
        </p:nvSpPr>
        <p:spPr>
          <a:xfrm>
            <a:off x="2209680" y="3809880"/>
            <a:ext cx="685800" cy="685800"/>
          </a:xfrm>
          <a:prstGeom prst="sun">
            <a:avLst>
              <a:gd name="adj" fmla="val 25000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8">
            <a:hlinkClick r:id="rId9" action="ppaction://hlinksldjump"/>
          </p:cNvPr>
          <p:cNvSpPr/>
          <p:nvPr/>
        </p:nvSpPr>
        <p:spPr>
          <a:xfrm>
            <a:off x="2209680" y="2362320"/>
            <a:ext cx="685800" cy="685800"/>
          </a:xfrm>
          <a:prstGeom prst="sun">
            <a:avLst>
              <a:gd name="adj" fmla="val 25000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9">
            <a:hlinkClick r:id="rId10" action="ppaction://hlinksldjump"/>
          </p:cNvPr>
          <p:cNvSpPr/>
          <p:nvPr/>
        </p:nvSpPr>
        <p:spPr>
          <a:xfrm>
            <a:off x="2209680" y="3048120"/>
            <a:ext cx="685800" cy="685800"/>
          </a:xfrm>
          <a:prstGeom prst="sun">
            <a:avLst>
              <a:gd name="adj" fmla="val 25000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0">
            <a:hlinkClick r:id="rId11" action="ppaction://hlinksldjump"/>
          </p:cNvPr>
          <p:cNvSpPr/>
          <p:nvPr/>
        </p:nvSpPr>
        <p:spPr>
          <a:xfrm>
            <a:off x="2209680" y="1676520"/>
            <a:ext cx="685800" cy="685800"/>
          </a:xfrm>
          <a:prstGeom prst="sun">
            <a:avLst>
              <a:gd name="adj" fmla="val 25000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3">
            <a:hlinkClick r:id="rId12" action="ppaction://hlinksldjump"/>
          </p:cNvPr>
          <p:cNvSpPr/>
          <p:nvPr/>
        </p:nvSpPr>
        <p:spPr>
          <a:xfrm>
            <a:off x="2209680" y="5257800"/>
            <a:ext cx="685800" cy="685800"/>
          </a:xfrm>
          <a:prstGeom prst="sun">
            <a:avLst>
              <a:gd name="adj" fmla="val 25000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Times New Roman"/>
              </a:rPr>
              <a:t>Рекорды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озеро - достопримечательность не толь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ссии, а всего мира. Ему нет равных в мире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расту, глубине, запасам и свойствам прес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ды, многообразию и эндемизму органиче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лубина озера- 1637 метров, 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В его котлов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сосредоточено около 20% мировых запа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пресных озерных вод плане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твет: озеро Байк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Times New Roman"/>
              </a:rPr>
              <a:t>1. Науки о природе (2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876560" y="5562360"/>
            <a:ext cx="38098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 демогра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00240" y="220968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назыв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ука о населен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го количест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ловиях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jddou2"/>
          <p:cNvPicPr/>
          <p:nvPr/>
        </p:nvPicPr>
        <p:blipFill>
          <a:blip r:embed="rId2"/>
          <a:stretch/>
        </p:blipFill>
        <p:spPr>
          <a:xfrm>
            <a:off x="380880" y="2286000"/>
            <a:ext cx="4191120" cy="3149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Georgia"/>
              </a:rPr>
              <a:t>Атмосфе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гантские атмосферные вихри, возникаю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 тропическими морями, к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нимающийся теплый воздух начин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емительно вращаться, захватывая обшир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ласти. Скорость вращения до 400км/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называется это грозное я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твет: ураган (тайфу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Georgia"/>
              </a:rPr>
              <a:t>Самоцветы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минерал содержит 57% чистой ме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 камня узорчатый, нарядный. Его окра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гата оттенками - вся палитра зеленых тонов 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тло-зеленого до густого темно-зеленого цвет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называют атласная руда, павлиний камен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ная зелен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му самоцвету посвящены сказы П. Баж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тделку зала в Эрмитаже ушло 133 пуда э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ц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Ответ: малах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Georgia"/>
              </a:rPr>
              <a:t>Удивительное рядом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территории Самарской области располож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родный заповедник (1927) федера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я, созданный для изучения и со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лоры и фауны зоны хвойно-широколиств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сов Среднего Поволжья. Как он называется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ff"/>
                </a:solidFill>
                <a:latin typeface="Arial"/>
              </a:rPr>
              <a:t>Ответ Жигулевский Заповед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Georgia"/>
              </a:rPr>
              <a:t>Загадка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28191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ссыпался горох на семьдесят дорог, никто  его не подбер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ff"/>
                </a:solidFill>
                <a:latin typeface="Arial"/>
              </a:rPr>
              <a:t>Отгадка : гр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Georgia"/>
              </a:rPr>
              <a:t>Вода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696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территории Сама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текает одна из крупнейших рек на Зем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самая большая в Европе. Приним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оло 200 притоков. Назовите реку и 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токи, протекающие в нашей мест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ff"/>
                </a:solidFill>
                <a:latin typeface="Arial"/>
              </a:rPr>
              <a:t>Ответ: река Волга, притоки – Сызран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ff"/>
                </a:solidFill>
                <a:latin typeface="Arial"/>
              </a:rPr>
              <a:t>Тишерек, Каргалка, Игарка, Уса, Куб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990720" y="281952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7" descr="игра окончена"/>
          <p:cNvPicPr/>
          <p:nvPr/>
        </p:nvPicPr>
        <p:blipFill>
          <a:blip r:embed="rId2"/>
          <a:stretch/>
        </p:blipFill>
        <p:spPr>
          <a:xfrm>
            <a:off x="609480" y="2438280"/>
            <a:ext cx="7848720" cy="1764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966ff"/>
                </a:solidFill>
                <a:latin typeface="Times New Roman"/>
              </a:rPr>
              <a:t>Использованная литература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226720" cy="4191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ринова И.И. География. Начальный курс. 5 класс. / И.И. Баринова, А.А. Плешаков, Н.И. Сонин- М., Дрофа,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ктронное приложение к учебнику Баринова И.И. География. Начальный курс. 5 класс. / И.И. Баринова, А.А. Плешаков, Н.И. Сонин- М., Дрофа,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И. Баринова, Т. А. Карташева. География. Начальный курс. 5 класс. Методическое пособие к учебнику И. И. Бариновой, А. А. Плешакова, Н. И. Сонина «География. Начальный курс. 5 класс– М.,Дрофа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познаю мир. География. Энциклопедия. – М., АСТ, 1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966ff"/>
                </a:solidFill>
                <a:latin typeface="Times New Roman"/>
              </a:rPr>
              <a:t>Интернет-ресурсы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0400" cy="4648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8000"/>
          </a:bodyPr>
          <a:p>
            <a:pPr marL="541440" indent="-5414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stat18.privet.ru/lr/0a19a71b37652619ecb933ae5dda863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И. Крузенштер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1440" indent="-5414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img0.liveinternet.ru/images/attach/c/2/69/317/69317013_Image1.jpg Беллинсгаузен  и Лазаре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1440" indent="-5414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agesmystery.ru/sites/default/files.jpg Афанасий Никит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1440" indent="-5414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img0.liveinternet.ru/images/attach/c/7/95/624/95624770_3827565_pla_jupiter.jpg Юпит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1440" indent="-5414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cirota.ru/forum/images/82/82372.jpeg галак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1440" indent="-5414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img1.liveinternet.ru/images/attach/c/1/60/265/60265062_1276435901_8524052.jpg расс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1440" indent="-5414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bugaga.ru/uploads/posts/2009-05/1243795233_02239c268a88.jpg извержение вулк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1440" indent="-5414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agentia.org/imagini-articole/ce-spun-planetele-despre-poporul-roman-2532.jpg солн сист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1440" indent="-5414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eltarotdeana.com/wp-content/uploads/2010/06/astros.gif ком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1440" indent="-5414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myphysiography.ru/img/16.jpg план мест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1440" indent="-5414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fullgadgets.com/gadgets/components/com_virtuemart/show_image_in_imgtag.php?filename=A94005.jpg&amp;newxsize=250&amp;newysize=250&amp;fileout комп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1440" indent="-5414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im0-tub-ru.yandex.net/i?id=177992454-05-72&amp;n=21 Магелл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1440" indent="-5414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lib.rus.ec/i/90/353590/_70408_geogr9.jpg условные зна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1440" indent="-5414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eso.org/public/outreach/eduoff/vt-2004/Background/Infol2/vt2004-d4-fig1.jpg планеты земной групп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1440" indent="-5414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900igr.net/datas/geografija/Teplovye-pojasa-Zemli/0006-006-Ugadaj-materik-po-konturam.jpg контуры матер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ff"/>
                </a:solidFill>
                <a:latin typeface="Times New Roman"/>
              </a:rPr>
              <a:t>Интернет-ресурсы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stat18.privet.ru/lr/0a2864249dda4e23ca7203fe6a6ad4c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ах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ksonline.ru/files/news/4538_file_bayk_spring.jpg Байк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myphysiography.ru/img/38.jpg вулк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turoboz.ru/cmsdb/article_images/images/kluchevskaja-sopka.jpg Ключевская соп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ncwcom.com/~jones/Geology/pictures/lime.jpg известня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rai.by/images/uploaded/photos_1952.jpg песчан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900igr.net/datai/okruzhajuschij-mir/Forma-Zemli/0013-018-Storony-gorizonta.jpg стороны горизо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geoglobus.ru/earth/geo1/zgeo21.JPG западное полушар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i052.radikal.ru/1007/9d/6117c848b1a0.jpg карта ми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kocmos.ru/wp-content/uploads/2012/07/bolshaya_medvedica_sozvezdie.jpg созвездие Большой медведиц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upload.wikimedia.org/wikipedia/commons/thumb/d/dd/Earth_layers_model.png/599px-Earth_layers_model.png строение Зем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img.by/i/WRqt.jpg ехид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2krota.ru/uploads/posts/2010-05/1273433722_36496e2686b0.jpg ко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tatic.kharkovforum.com/customprofilepics/profilepic210215_1.gif кенгу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admmegion.ru/upload/iblock/cf1/jddou2.jpg демограф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Times New Roman"/>
              </a:rPr>
              <a:t>1. Науки о природе (3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44953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ff"/>
                </a:solidFill>
                <a:latin typeface="Arial"/>
              </a:rPr>
              <a:t>ФОТОВОПРОС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ие явления природы изображены на фотография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: физ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рассвет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914400" y="1752480"/>
            <a:ext cx="3581280" cy="273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вулкан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4952880" y="1752480"/>
            <a:ext cx="3657600" cy="27320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Times New Roman"/>
              </a:rPr>
              <a:t>1. Науки о природе (4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5105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: физическую географию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циально-экономическую географ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219320" y="2666520"/>
            <a:ext cx="7027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8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какие два основных раздела делят географию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Times New Roman"/>
              </a:rPr>
              <a:t>1. Науки о природе (5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05160" y="1828440"/>
            <a:ext cx="3733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является объектом изучения географии?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. форма Земл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. строение Зем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. земная поверх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глобус26"/>
          <p:cNvPicPr/>
          <p:nvPr/>
        </p:nvPicPr>
        <p:blipFill>
          <a:blip r:embed="rId2"/>
          <a:stretch/>
        </p:blipFill>
        <p:spPr>
          <a:xfrm>
            <a:off x="1143000" y="1828800"/>
            <a:ext cx="3281400" cy="4135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66ff"/>
                </a:solidFill>
                <a:latin typeface="Times New Roman"/>
              </a:rPr>
              <a:t>2. Географические открытия (10)</a:t>
            </a:r>
            <a:r>
              <a:rPr b="0" lang="ru-RU" sz="3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AutoShape 5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Рисунок1"/>
          <p:cNvPicPr/>
          <p:nvPr/>
        </p:nvPicPr>
        <p:blipFill>
          <a:blip r:embed="rId2"/>
          <a:stretch/>
        </p:blipFill>
        <p:spPr>
          <a:xfrm>
            <a:off x="3124080" y="2362320"/>
            <a:ext cx="3051360" cy="11858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0"/>
          <p:cNvSpPr/>
          <p:nvPr/>
        </p:nvSpPr>
        <p:spPr>
          <a:xfrm>
            <a:off x="1295280" y="41148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ш выигрыш увеличив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10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66ff"/>
                </a:solidFill>
                <a:latin typeface="Times New Roman"/>
              </a:rPr>
              <a:t>2. Географические открытия (20)</a:t>
            </a:r>
            <a:r>
              <a:rPr b="0" lang="ru-RU" sz="3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52520" y="1676520"/>
            <a:ext cx="3886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зовит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д открытия Амери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: 14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зап полушарие"/>
          <p:cNvPicPr/>
          <p:nvPr/>
        </p:nvPicPr>
        <p:blipFill>
          <a:blip r:embed="rId2"/>
          <a:stretch/>
        </p:blipFill>
        <p:spPr>
          <a:xfrm>
            <a:off x="609480" y="1752480"/>
            <a:ext cx="426096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исенков С.А.</dc:creator>
  <dc:description>Презентацию можно использовать для групповых и индивидуальных занятий</dc:description>
  <cp:keywords>география</cp:keywords>
  <dc:language>en-US</dc:language>
  <cp:lastModifiedBy>Win10</cp:lastModifiedBy>
  <dcterms:modified xsi:type="dcterms:W3CDTF">2024-11-04T10:38:48Z</dcterms:modified>
  <cp:revision>289</cp:revision>
  <dc:subject>география</dc:subject>
  <dc:title>Своя игра по географии 8 клас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Автор">
    <vt:lpwstr>Лисенков С.А.</vt:lpwstr>
  </property>
  <property fmtid="{D5CDD505-2E9C-101B-9397-08002B2CF9AE}" pid="3" name="Цель">
    <vt:lpwstr>закрепление знаний по географии в 8 кл.</vt:lpwstr>
  </property>
  <property fmtid="{D5CDD505-2E9C-101B-9397-08002B2CF9AE}" pid="4" name="Язык">
    <vt:lpwstr>русский</vt:lpwstr>
  </property>
  <property fmtid="{D5CDD505-2E9C-101B-9397-08002B2CF9AE}" pid="5" name="класс">
    <vt:lpwstr>8</vt:lpwstr>
  </property>
  <property fmtid="{D5CDD505-2E9C-101B-9397-08002B2CF9AE}" pid="6" name="тема">
    <vt:lpwstr>география</vt:lpwstr>
  </property>
</Properties>
</file>